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532-7D85-4510-B77D-345761AF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BA4-C42B-411D-93F9-3E5EF14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7A6-3F2D-4BB4-A85C-9429FAB2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768-F78D-4ECE-A6C0-CE269B9A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88D-FECA-4EC1-B010-31AD0CE5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B75-178F-4C75-8551-C0440BFF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147-130B-4DAC-A29E-C0B6F573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FEA-9B77-4776-8BED-DAFF01D0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E9B-5A1F-44AE-88ED-1B363C2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C02-8723-4849-BEE0-591F18D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67A-7F2A-45C4-A9B6-583FF76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78E-711D-4EB9-8FCB-EC19F00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A2E-FAF4-4CFA-9420-6D41224D7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ybersafety.org.nz/kit/index.html" TargetMode="External"/><Relationship Id="rId2" Type="http://schemas.openxmlformats.org/officeDocument/2006/relationships/hyperlink" Target="http://landmark-project.com/aup20/pmwiki.php" TargetMode="External"/><Relationship Id="rId3" Type="http://schemas.openxmlformats.org/officeDocument/2006/relationships/hyperlink" Target="http://www.youtube.com/watch?v=5SgWZk7GRLw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Documents/AUP%20stuff/Employee%20AUP09.pdf" TargetMode="External"/><Relationship Id="rId2" Type="http://schemas.openxmlformats.org/officeDocument/2006/relationships/hyperlink" Target="file:///../../Documents/AUP%20stuff/USAUP09.doc" TargetMode="External"/><Relationship Id="rId3" Type="http://schemas.openxmlformats.org/officeDocument/2006/relationships/hyperlink" Target="http://schoolcomputing.wikia.com/wiki/Acceptable_Use_Policie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ybersmartcurriculum.org/home/" TargetMode="External"/><Relationship Id="rId2" Type="http://schemas.openxmlformats.org/officeDocument/2006/relationships/hyperlink" Target="http://www.netsafe.org.nz/" TargetMode="External"/><Relationship Id="rId3" Type="http://schemas.openxmlformats.org/officeDocument/2006/relationships/hyperlink" Target="http://www.netsmartz.org/" TargetMode="External"/><Relationship Id="rId4" Type="http://schemas.openxmlformats.org/officeDocument/2006/relationships/hyperlink" Target="http://www.isafe.org/" TargetMode="External"/><Relationship Id="rId5" Type="http://schemas.openxmlformats.org/officeDocument/2006/relationships/hyperlink" Target="http://www.playitcybersafe.com/curriculum/index.cfm" TargetMode="External"/><Relationship Id="rId6" Type="http://schemas.openxmlformats.org/officeDocument/2006/relationships/hyperlink" Target="http://www.thesolutionsite.com/IRULE/activities.html" TargetMode="External"/><Relationship Id="rId7" Type="http://schemas.openxmlformats.org/officeDocument/2006/relationships/hyperlink" Target="http://www.netalert.net.au/01732-CyberSafe-Schools.asp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orthfulton.com/Articles-i-2008-04-03-171208.112113_North_Fulton_students_learn_Internet_safety.html" TargetMode="External"/><Relationship Id="rId2" Type="http://schemas.openxmlformats.org/officeDocument/2006/relationships/hyperlink" Target="file:///../../Documents/AUP%20stuff/LVA%20Research%20%20Citation%20Curriculum%202008%20-%202009.doc" TargetMode="External"/><Relationship Id="rId3" Type="http://schemas.openxmlformats.org/officeDocument/2006/relationships/hyperlink" Target="file:///../../Documents/Laptop%20Program/Classroom%20Management%20Tips.ppt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Internet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98989"/>
                </a:solidFill>
                <a:latin typeface="Calibri"/>
              </a:rPr>
              <a:t>Connie Whit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irector of Technology &amp; Medi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Lakeview Acade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inesville, 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connie.white\Pictures\2008-05-02 May12008\May12008 115.JPG"/>
          <p:cNvPicPr/>
          <p:nvPr/>
        </p:nvPicPr>
        <p:blipFill>
          <a:blip r:embed="rId1"/>
          <a:stretch/>
        </p:blipFill>
        <p:spPr>
          <a:xfrm>
            <a:off x="457200" y="609480"/>
            <a:ext cx="81612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Each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, Trends and Devices are constantly chan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is continually revised as new resources become avail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students, faculty, parents must be brought on 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pe and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609480"/>
            <a:ext cx="883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Safe Step by Step Guid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ybersafety.org.nz/kit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 AUP 2.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andmark-project.com/aup20/pmwiki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Safety Video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5SgWZk7GRL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ber bullying Video: http://www.youtube.com/watch?v=seOQyMvG99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 and Computing  Wiki: http://schoolcomputing.wikia.com/wiki/Acceptable_Use_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ber safety Curriculums:  http://www.familyinternet.info/Teachers_Curriculums.htm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 and Accountability is essent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connie.white\Desktop\school\tech lowerschool\boyengaged.jpg"/>
          <p:cNvPicPr/>
          <p:nvPr/>
        </p:nvPicPr>
        <p:blipFill>
          <a:blip r:embed="rId1"/>
          <a:stretch/>
        </p:blipFill>
        <p:spPr>
          <a:xfrm>
            <a:off x="1600200" y="990720"/>
            <a:ext cx="5718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ffective Internet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P’s 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ty, Parent &amp; Community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Internet Safety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 Annually - Rep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connie.white\Pictures\2008-05-08 May8th2008\May8th2008 001.JPG"/>
          <p:cNvPicPr/>
          <p:nvPr/>
        </p:nvPicPr>
        <p:blipFill>
          <a:blip r:embed="rId1"/>
          <a:stretch/>
        </p:blipFill>
        <p:spPr>
          <a:xfrm>
            <a:off x="4419720" y="16002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Should we Beg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ty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Speci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Speci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n of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-Survey staff to determine components currently in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P’s for Employees and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ppe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chool Computing W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Security Systems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us/Spyware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wall/Internet Filter/Monitor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reles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ul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Faculty &amp;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P’s 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ty, Parent &amp; Community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Issues, Trends &amp;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Internet Safety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yberSm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NetSa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etSmar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a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BSA Play it Cybersa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iRules Internet Safety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Net Al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Safe Geor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ing” game from Web Wise K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isor Ethics Vide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ternet Research &amp; Ci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deo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ptop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connie.white\Documents\E-Safe Georgia\PSC-E safe.jpg"/>
          <p:cNvPicPr/>
          <p:nvPr/>
        </p:nvPicPr>
        <p:blipFill>
          <a:blip r:embed="rId4"/>
          <a:stretch/>
        </p:blipFill>
        <p:spPr>
          <a:xfrm>
            <a:off x="2666880" y="228600"/>
            <a:ext cx="32148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afety.wmv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4868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7:42:32Z</dcterms:created>
  <dc:creator>Connie White</dc:creator>
  <dc:description/>
  <dc:language>en-US</dc:language>
  <cp:lastModifiedBy>Connie White</cp:lastModifiedBy>
  <dcterms:modified xsi:type="dcterms:W3CDTF">2009-07-24T22:43:13Z</dcterms:modified>
  <cp:revision>58</cp:revision>
  <dc:subject/>
  <dc:title>Effective Internet Safety</dc:title>
</cp:coreProperties>
</file>